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7AF3F-57AF-45F4-BA60-2628DD18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DB4DC-8B4F-4EE3-9EB4-BC65396C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AD0B9-1720-4045-AF01-1D02FB0E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2FA5B-CC8B-4B27-943B-C5D99861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226D-947C-4D76-B545-58A417AE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8D15-A7D1-46B9-9ADB-14841B39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1D53-AE46-4B65-B03A-5EC527E2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8880-4E3C-4FDB-A1E0-F7644ACB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6D8B-8DCC-4025-9449-69DFC805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D59A-28A9-4B0C-B6E1-CA19E137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7F1E-3E92-4B18-84A7-37086AB8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66264-1693-4A1C-B348-2E57F767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59DA-2852-43EF-8DCB-30D6CF5C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4B86-69AD-4958-B47B-AF26747B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6540-2CBB-4488-90BA-8E52D1EB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DDAD-F627-441B-9D60-E1570727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A4E3-B986-4B07-9A6E-74390CEA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5AF09-D96C-4D2E-B503-EB6B97E1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F2442-2283-4733-9844-38FD9AE6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D9AA2-1336-4327-8B9C-C018EDDA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3A6AE-479E-412A-B1B4-9FD9E739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E14D2-9461-4DB1-9587-CF60B4C6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E9A7B-2434-4C17-B200-CC915842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A332B-996D-4052-B289-9FD7D8B7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7E21-3248-4434-91B3-F9450101AA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2407-23A5-4557-93FF-2783C7490D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utokey-Plain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Autokey-Plai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not as easy to break as the autokey-ciphertext but . .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asiski-like method exists to determine the “group length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-length is the actual keyword length but since the keyword is not repeated, the group-length describes the length of segments of the running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egments define the distance between a plaintext letter being enciphered and becoming a key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90C0B-8662-40A1-83CD-960D929569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example, if the keyword is “alice” a possible cipher structure could be given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04480" y="45957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 h i s i s a n e x a m p 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85400" y="41338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urier New"/>
              </a:rPr>
              <a:t>a l i c e t h i s i s a n 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8280" y="4570560"/>
            <a:ext cx="2161800" cy="1532880"/>
            <a:chOff x="368280" y="4570560"/>
            <a:chExt cx="2161800" cy="1532880"/>
          </a:xfrm>
        </p:grpSpPr>
        <p:sp>
          <p:nvSpPr>
            <p:cNvPr id="120" name=""/>
            <p:cNvSpPr/>
            <p:nvPr/>
          </p:nvSpPr>
          <p:spPr>
            <a:xfrm>
              <a:off x="957240" y="4570560"/>
              <a:ext cx="685800" cy="6570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8280" y="5643720"/>
              <a:ext cx="21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 is enciphe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208320" y="4094280"/>
            <a:ext cx="2148120" cy="2052000"/>
            <a:chOff x="3208320" y="4094280"/>
            <a:chExt cx="2148120" cy="2052000"/>
          </a:xfrm>
        </p:grpSpPr>
        <p:sp>
          <p:nvSpPr>
            <p:cNvPr id="123" name=""/>
            <p:cNvSpPr/>
            <p:nvPr/>
          </p:nvSpPr>
          <p:spPr>
            <a:xfrm>
              <a:off x="3381480" y="4094280"/>
              <a:ext cx="685800" cy="6570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ff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08320" y="5686560"/>
              <a:ext cx="21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 is a key let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57480" y="3571920"/>
            <a:ext cx="2438280" cy="641160"/>
            <a:chOff x="1257480" y="3571920"/>
            <a:chExt cx="2438280" cy="641160"/>
          </a:xfrm>
        </p:grpSpPr>
        <p:sp>
          <p:nvSpPr>
            <p:cNvPr id="126" name=""/>
            <p:cNvSpPr/>
            <p:nvPr/>
          </p:nvSpPr>
          <p:spPr>
            <a:xfrm>
              <a:off x="1257480" y="3741840"/>
              <a:ext cx="0" cy="471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95760" y="3722760"/>
              <a:ext cx="0" cy="4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57200" y="3941640"/>
              <a:ext cx="2257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10120" y="357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68304-6512-4BA6-984C-335EA93C82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7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the 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1540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sible to discover the group length from 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group length is 5 then every plaintext letter will be enciphered by the letter 5 positions to its left and in turn will encipher the letter 5 positions to its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plaintext has a lot of repeated characters there will be an unusually large number of identical letters separated by the group leng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4735440"/>
            <a:ext cx="621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:     . . . R . . .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aintext:     . . . S . . .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phertext:     . . . J . . .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251320" y="4803840"/>
            <a:ext cx="1793880" cy="709560"/>
            <a:chOff x="5251320" y="4803840"/>
            <a:chExt cx="1793880" cy="709560"/>
          </a:xfrm>
        </p:grpSpPr>
        <p:sp>
          <p:nvSpPr>
            <p:cNvPr id="134" name=""/>
            <p:cNvSpPr/>
            <p:nvPr/>
          </p:nvSpPr>
          <p:spPr>
            <a:xfrm>
              <a:off x="5251320" y="5167440"/>
              <a:ext cx="336240" cy="34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08600" y="4803840"/>
              <a:ext cx="336600" cy="34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587560" y="5051160"/>
              <a:ext cx="109224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499000" y="4667400"/>
            <a:ext cx="3470400" cy="1191240"/>
            <a:chOff x="5499000" y="4667400"/>
            <a:chExt cx="3470400" cy="1191240"/>
          </a:xfrm>
        </p:grpSpPr>
        <p:sp>
          <p:nvSpPr>
            <p:cNvPr id="138" name=""/>
            <p:cNvSpPr/>
            <p:nvPr/>
          </p:nvSpPr>
          <p:spPr>
            <a:xfrm>
              <a:off x="6707160" y="5165640"/>
              <a:ext cx="355680" cy="3556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9000" y="5024520"/>
              <a:ext cx="119880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15400" y="4667400"/>
              <a:ext cx="185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here is a go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hance that th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kind of event wi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occ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383080" y="5823000"/>
            <a:ext cx="1499040" cy="455760"/>
            <a:chOff x="5383080" y="5823000"/>
            <a:chExt cx="1499040" cy="455760"/>
          </a:xfrm>
        </p:grpSpPr>
        <p:sp>
          <p:nvSpPr>
            <p:cNvPr id="142" name=""/>
            <p:cNvSpPr/>
            <p:nvPr/>
          </p:nvSpPr>
          <p:spPr>
            <a:xfrm>
              <a:off x="5410440" y="5823000"/>
              <a:ext cx="0" cy="284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37440" y="5919840"/>
              <a:ext cx="13935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77080" y="5824440"/>
              <a:ext cx="0" cy="28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83080" y="591048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Group 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79A92-2680-437C-B5F3-5605BF0B6D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786280" cy="24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distances between all letter repeti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common distances are strong candidates for the group-leng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automatically calculate these dista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584680" y="3376440"/>
            <a:ext cx="2571840" cy="30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4B79E-9F35-4037-8D96-00D25E1F02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6320" y="2055600"/>
            <a:ext cx="825012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of the group length reveals how the plaintext is divided into se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roup length is 5, then the first segment consists of every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ter beginning with the first le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the encipher chain for this segment,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6120" y="51544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 h i s i s a n e x a m p 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96760" y="469260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urier New"/>
              </a:rPr>
              <a:t>a l i c e t h i s i s a n 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41040" y="56260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urier New"/>
              </a:rPr>
              <a:t>t s q u m l h v w f s m c p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93880" y="5019480"/>
            <a:ext cx="2547360" cy="586080"/>
            <a:chOff x="893880" y="5019480"/>
            <a:chExt cx="2547360" cy="586080"/>
          </a:xfrm>
        </p:grpSpPr>
        <p:sp>
          <p:nvSpPr>
            <p:cNvPr id="155" name=""/>
            <p:cNvSpPr/>
            <p:nvPr/>
          </p:nvSpPr>
          <p:spPr>
            <a:xfrm>
              <a:off x="893880" y="5203800"/>
              <a:ext cx="401400" cy="4017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1303200" y="5019480"/>
              <a:ext cx="2138040" cy="33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788080" y="5259240"/>
            <a:ext cx="401760" cy="4017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354480" y="5010120"/>
            <a:ext cx="2555280" cy="622440"/>
            <a:chOff x="3354480" y="5010120"/>
            <a:chExt cx="2555280" cy="622440"/>
          </a:xfrm>
        </p:grpSpPr>
        <p:sp>
          <p:nvSpPr>
            <p:cNvPr id="159" name=""/>
            <p:cNvSpPr/>
            <p:nvPr/>
          </p:nvSpPr>
          <p:spPr>
            <a:xfrm>
              <a:off x="3354480" y="5230800"/>
              <a:ext cx="401400" cy="4017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87560" y="5010120"/>
              <a:ext cx="2122200" cy="35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903240" y="5694480"/>
            <a:ext cx="434880" cy="434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6560" y="5678640"/>
            <a:ext cx="434880" cy="434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07160" y="5697360"/>
            <a:ext cx="434880" cy="435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88C3-9844-4F46-98CF-8DAEEFAAF9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7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ute Force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70760" cy="17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use a brute force attack because each segment is defined by its beginning character (which is from the key wor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36440" y="3916440"/>
            <a:ext cx="75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Ciphertext (known)    Key character (unknown)   plaintext (unkn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24480" y="419724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3480" y="4583160"/>
            <a:ext cx="52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01440" y="501660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280040" y="3500280"/>
            <a:ext cx="1342800" cy="1148760"/>
            <a:chOff x="4280040" y="3500280"/>
            <a:chExt cx="1342800" cy="1148760"/>
          </a:xfrm>
        </p:grpSpPr>
        <p:sp>
          <p:nvSpPr>
            <p:cNvPr id="171" name=""/>
            <p:cNvSpPr/>
            <p:nvPr/>
          </p:nvSpPr>
          <p:spPr>
            <a:xfrm>
              <a:off x="4280040" y="418932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81440" y="3500280"/>
              <a:ext cx="941400" cy="647640"/>
            </a:xfrm>
            <a:prstGeom prst="wedgeRoundRectCallout">
              <a:avLst>
                <a:gd name="adj1" fmla="val -44773"/>
                <a:gd name="adj2" fmla="val 70097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u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755760" y="4179960"/>
            <a:ext cx="266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308120" y="4397400"/>
            <a:ext cx="2370600" cy="626400"/>
            <a:chOff x="4308120" y="4397400"/>
            <a:chExt cx="2370600" cy="626400"/>
          </a:xfrm>
        </p:grpSpPr>
        <p:sp>
          <p:nvSpPr>
            <p:cNvPr id="175" name=""/>
            <p:cNvSpPr/>
            <p:nvPr/>
          </p:nvSpPr>
          <p:spPr>
            <a:xfrm flipH="1">
              <a:off x="4662720" y="4397400"/>
              <a:ext cx="201600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08120" y="4564080"/>
              <a:ext cx="266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287960" y="4956120"/>
            <a:ext cx="2788560" cy="551880"/>
            <a:chOff x="4287960" y="4956120"/>
            <a:chExt cx="2788560" cy="551880"/>
          </a:xfrm>
        </p:grpSpPr>
        <p:sp>
          <p:nvSpPr>
            <p:cNvPr id="178" name=""/>
            <p:cNvSpPr/>
            <p:nvPr/>
          </p:nvSpPr>
          <p:spPr>
            <a:xfrm>
              <a:off x="6726600" y="495612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87960" y="50482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295160" y="4578480"/>
            <a:ext cx="2749680" cy="459720"/>
            <a:chOff x="4295160" y="4578480"/>
            <a:chExt cx="2749680" cy="459720"/>
          </a:xfrm>
        </p:grpSpPr>
        <p:sp>
          <p:nvSpPr>
            <p:cNvPr id="181" name=""/>
            <p:cNvSpPr/>
            <p:nvPr/>
          </p:nvSpPr>
          <p:spPr>
            <a:xfrm>
              <a:off x="4295160" y="4578480"/>
              <a:ext cx="266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11840" y="45784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307040" y="4822920"/>
            <a:ext cx="2442960" cy="658080"/>
            <a:chOff x="4307040" y="4822920"/>
            <a:chExt cx="2442960" cy="658080"/>
          </a:xfrm>
        </p:grpSpPr>
        <p:sp>
          <p:nvSpPr>
            <p:cNvPr id="184" name=""/>
            <p:cNvSpPr/>
            <p:nvPr/>
          </p:nvSpPr>
          <p:spPr>
            <a:xfrm flipH="1">
              <a:off x="4751280" y="4822920"/>
              <a:ext cx="199872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07040" y="50212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360440" y="4466880"/>
            <a:ext cx="2921040" cy="1806120"/>
            <a:chOff x="1360440" y="4466880"/>
            <a:chExt cx="2921040" cy="1806120"/>
          </a:xfrm>
        </p:grpSpPr>
        <p:sp>
          <p:nvSpPr>
            <p:cNvPr id="187" name=""/>
            <p:cNvSpPr/>
            <p:nvPr/>
          </p:nvSpPr>
          <p:spPr>
            <a:xfrm>
              <a:off x="1360440" y="5813280"/>
              <a:ext cx="26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y all 26 gue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038400" y="4466880"/>
              <a:ext cx="1243080" cy="14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516640" y="5371920"/>
            <a:ext cx="2940840" cy="1489320"/>
            <a:chOff x="5516640" y="5371920"/>
            <a:chExt cx="2940840" cy="1489320"/>
          </a:xfrm>
        </p:grpSpPr>
        <p:sp>
          <p:nvSpPr>
            <p:cNvPr id="190" name=""/>
            <p:cNvSpPr/>
            <p:nvPr/>
          </p:nvSpPr>
          <p:spPr>
            <a:xfrm>
              <a:off x="5516640" y="6035760"/>
              <a:ext cx="294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e a low frequenc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aracter t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900840" y="5371920"/>
              <a:ext cx="0" cy="73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562A5-DAE7-41B6-BD44-02E8A304C2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4T03:28:15Z</dcterms:modified>
  <cp:revision>64</cp:revision>
  <dc:subject/>
  <dc:title>CAP Cryptographic Analysis Program</dc:title>
</cp:coreProperties>
</file>